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B4C-C894-47F6-8B53-23B96DED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EB0-DDAA-4B0C-8581-C76AE72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D5E-4790-4BC7-8252-C90B98C4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20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120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800-D98F-414E-9909-43C9AFEC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3079-16CB-4D64-BD98-FD09FB85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B5C-6E15-4666-95F1-59E38B9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5571-E084-4586-B62E-55082F4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F0A-BF5A-4584-82A1-E9E3A5D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D72-E27E-4E6C-8B55-C1183D9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35164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E082-62A8-481F-9C45-60996745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97B-7620-4438-B18B-1C80C85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F87-FB92-483E-BD0D-B1CADD4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54ED-4922-406D-BA4A-01E1375D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633E-010B-4669-890C-758BB94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8FC-85F2-4BED-AF64-09849DD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004-FC38-4A05-BEE3-8B74DE99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53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20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53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120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C9A6-D185-4BBE-89BA-FAC8502C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53C-DC7D-4BFC-8670-E05057CD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339-046B-4578-9603-294D0904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771-193F-432B-8880-E13BF75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35164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70D-B9A3-43D1-BD67-E9DBB1AE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C94-9374-4444-BE7F-139B97B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E56-0779-4BFB-9433-108E412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C58-D506-4DA3-BF26-53DE4FE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D70-A5AC-4E6E-BDA6-71D8E458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7A0-1768-4AC3-B9CE-257FF9C7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yugat-Dunántúli Termál- és Gyógyfürdő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529080" cy="274788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3672000" cy="250200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132000" y="3284640"/>
            <a:ext cx="3821400" cy="286524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3460680" cy="259560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</p:spTree>
  </p:cSld>
  <p:transition spd="slow" advTm="10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Kehidakustány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Zala-völgyében található a Kehida Termál gyógyfürdő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ehida-kustá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arázslatos tájával és 43°C-os termálvizével évek óta a turisták, pihenni és gyógyulni vágyók második ottho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4 hektáron elterülő strand-fürdőben 6 medence üzemel. A medencék vize különböző hőfokú. A legkisebbeket gyermekpancsoló várja, a felnőttek feszített víztükrű hideg vizes vagy 27°C-os termál-vizű úszómedencében úszhat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04000" y="4624560"/>
            <a:ext cx="1979640" cy="14871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2909880"/>
            <a:ext cx="1979640" cy="14828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4000" y="1144440"/>
            <a:ext cx="1979640" cy="15145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Bükfürdő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ükfürdő a század második felében fejlődött Magyarország egyik legszí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nalasabb, és legkedveltebb fürdő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yévé. A gyógyulni vágyók különféle gyógyászati lehetőségek közt válogath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k, a nyugodt üdülést kereső vendégek varázslatos környezetben békés napokat tölthetn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t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ktív pihenés kedvelőit óriás csúszda, élményfürdő, feszített víztükrű úszóm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cék várják. A parkban további sportolási lehetőségek vannak, s ezt a skálát tovább színezik az aktuális sportrendezvények, versenyek, egés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ég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05440" y="1154160"/>
            <a:ext cx="1979640" cy="15001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05440" y="2903400"/>
            <a:ext cx="1979640" cy="1492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05440" y="4627440"/>
            <a:ext cx="1979640" cy="1484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Sárvár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árvá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gfontosabb vonzereje kétségtelenül az itt található kétféle gyógyvíz, amely megalapozta a ma látható fejlődést. Sárvár környékén 1200 méteres mélységből 43°C-os, 2000 méterről magas sótartalmú 83°C-os gyógyvíz tör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válóan alkalmas mozgásszervi megbetegedések gyógykezelésére, rehabilitációs betegségek, sportsé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ülések utókezelésére, neurológiai panaszokra, izomlazító fürdés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89600" y="1139760"/>
            <a:ext cx="1979640" cy="14907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89600" y="2900520"/>
            <a:ext cx="1979640" cy="14904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89600" y="4637160"/>
            <a:ext cx="1979640" cy="14810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Zalakaro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alakarosi gyógyvíz Európában is egyedülálló nátriumkloridos és hidrogén-karbonátos hévíz, amely a jodid- és bromid-ion tartalma következtében a jódos-brómos; szulfid-ion tartalma miatt pedig a kénes gyógyvizek csoportjába sorolh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ész évben nyitva tartó fedett fürdőben különböző vízhőmérsékletű gyógyvizes ülőmedencék, egy felülről nyitott termálmedence, és szauna-blokk található. Az élményfürdő a felüdülni vágyók minden igényét kielégíti. Fedett csarnoka egy élménymedencével, egy gyermekmedencével és egy többcélú medencével várja a pihenni vágyók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04000" y="1139760"/>
            <a:ext cx="1979640" cy="14907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04000" y="2905200"/>
            <a:ext cx="1979640" cy="1501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04000" y="4676760"/>
            <a:ext cx="1979640" cy="1440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2328840" cy="388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82128" t="0" r="0" b="0"/>
          <a:stretch/>
        </p:blipFill>
        <p:spPr>
          <a:xfrm>
            <a:off x="7510320" y="0"/>
            <a:ext cx="1633680" cy="669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0"/>
            <a:ext cx="3960720" cy="3097080"/>
          </a:xfrm>
          <a:prstGeom prst="cloudCallout">
            <a:avLst>
              <a:gd name="adj1" fmla="val -61782"/>
              <a:gd name="adj2" fmla="val 3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ova menjek nyaral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áj minden porciká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0641800">
            <a:off x="468360" y="475920"/>
            <a:ext cx="262728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2781360"/>
            <a:ext cx="3022920" cy="367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27640" y="216000"/>
            <a:ext cx="3960720" cy="2133360"/>
          </a:xfrm>
          <a:prstGeom prst="cloudCallout">
            <a:avLst>
              <a:gd name="adj1" fmla="val -61782"/>
              <a:gd name="adj2" fmla="val 7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ár indulok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44444E-006 3.70953E-006 L 0.72326 0.00023 E">
                                      <p:cBhvr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30:32Z</dcterms:created>
  <dc:creator>Ndrew</dc:creator>
  <dc:description/>
  <dc:language>en-US</dc:language>
  <cp:lastModifiedBy>Ndrew</cp:lastModifiedBy>
  <dcterms:modified xsi:type="dcterms:W3CDTF">2007-03-21T08:36:29Z</dcterms:modified>
  <cp:revision>52</cp:revision>
  <dc:subject/>
  <dc:title>Nyugat-Dunántúli Termál- és Gyógyfürdők</dc:title>
</cp:coreProperties>
</file>